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25F9-FC70-4895-B1BD-A6D554E32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232C-04DD-4591-9443-0C9E17E43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F0C7-3E76-4F4E-9578-89DE24354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6D34-916C-4DA7-BFE4-85DA68DAA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4A477-1CCE-441F-93B6-D45515CE6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2595B-4ADC-4D89-BB94-238AB42CB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CBB56-583A-4439-83A9-E8B0222C3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5A8CC-6770-41FF-AF67-B754D7182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AB1E9-B476-4A2F-9501-AA598BCD6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09E16-6207-495A-89A1-3C278EB86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19978-7E34-44C2-9023-B0436F17A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6EC7-F110-40AF-AC1F-A3D133AA4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68402-F29B-413D-B561-BFD7BD46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8E00E-59FF-4248-8D09-C9864C17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E5577-DD81-47A2-843A-DFDAC486B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84EDE-B682-43F7-AEDF-F5F1D29DB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EC131-A541-4A1B-8296-39C21C0CB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1D83-C9B8-4AA2-BDF0-B741DDE99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C4A0-5631-42D5-9BD7-C59E8FB36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3472-F8E3-4852-8724-0F74EAFDB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8952-C27A-4155-AC81-224551F8E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D7F6-D322-4526-8AFC-776C8AD6F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C608-0D13-4C1B-8C50-77D4F0044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655B-3295-4A48-BB9D-0E84357CB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CA49A-FF27-492E-955A-FAE9C1BA6DDE}" type="slidenum">
              <a: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21FF3-398A-404F-974B-22B75239C9E0}" type="slidenum">
              <a: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" Target="slide4.xml"/><Relationship Id="rId3" Type="http://schemas.openxmlformats.org/officeDocument/2006/relationships/image" Target="../media/image4.wmf"/><Relationship Id="rId4" Type="http://schemas.openxmlformats.org/officeDocument/2006/relationships/slide" Target="slide5.xml"/><Relationship Id="rId5" Type="http://schemas.openxmlformats.org/officeDocument/2006/relationships/image" Target="../media/image4.wmf"/><Relationship Id="rId6" Type="http://schemas.openxmlformats.org/officeDocument/2006/relationships/slide" Target="slide6.xml"/><Relationship Id="rId7" Type="http://schemas.openxmlformats.org/officeDocument/2006/relationships/image" Target="../media/image4.wmf"/><Relationship Id="rId8" Type="http://schemas.openxmlformats.org/officeDocument/2006/relationships/slide" Target="slide7.xml"/><Relationship Id="rId9" Type="http://schemas.openxmlformats.org/officeDocument/2006/relationships/image" Target="../media/image4.wmf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Your title her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Your nam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6" name="">
            <a:hlinkClick r:id="" action="ppaction://hlinkshowjump?jump=nextslide"/>
          </p:cNvPr>
          <p:cNvSpPr/>
          <p:nvPr/>
        </p:nvSpPr>
        <p:spPr>
          <a:xfrm>
            <a:off x="1066680" y="44197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Go!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Table Of Content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pic>
        <p:nvPicPr>
          <p:cNvPr id="88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533520" y="205740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828800" y="1981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49360" y="220968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449720" y="274320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ask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50440" y="327672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452240" y="3886200"/>
            <a:ext cx="16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Evaluation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52960" y="4495680"/>
            <a:ext cx="168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9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2514600"/>
            <a:ext cx="838080" cy="762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33520" y="3048120"/>
            <a:ext cx="838080" cy="7617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33520" y="3657600"/>
            <a:ext cx="838080" cy="762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533520" y="4267080"/>
            <a:ext cx="83808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1" name="">
            <a:hlinkClick r:id="" action="ppaction://hlinkshowjump?jump=nextslide"/>
          </p:cNvPr>
          <p:cNvSpPr/>
          <p:nvPr/>
        </p:nvSpPr>
        <p:spPr>
          <a:xfrm>
            <a:off x="7696080" y="685800"/>
            <a:ext cx="838440" cy="838080"/>
          </a:xfrm>
          <a:custGeom>
            <a:avLst/>
            <a:gdLst>
              <a:gd name="textAreaLeft" fmla="*/ 54000 w 838440"/>
              <a:gd name="textAreaRight" fmla="*/ 784440 w 8384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9" h="21600">
                <a:moveTo>
                  <a:pt x="0" y="0"/>
                </a:moveTo>
                <a:lnTo>
                  <a:pt x="21609" y="0"/>
                </a:lnTo>
                <a:lnTo>
                  <a:pt x="21609" y="21600"/>
                </a:lnTo>
                <a:lnTo>
                  <a:pt x="0" y="21600"/>
                </a:lnTo>
                <a:close/>
              </a:path>
              <a:path fill="lightenLess" w="21609" h="21600">
                <a:moveTo>
                  <a:pt x="0" y="0"/>
                </a:moveTo>
                <a:lnTo>
                  <a:pt x="21609" y="0"/>
                </a:lnTo>
                <a:lnTo>
                  <a:pt x="20209" y="1400"/>
                </a:lnTo>
                <a:lnTo>
                  <a:pt x="1400" y="1400"/>
                </a:lnTo>
                <a:close/>
              </a:path>
              <a:path fill="darken" w="21609" h="21600">
                <a:moveTo>
                  <a:pt x="21609" y="0"/>
                </a:moveTo>
                <a:lnTo>
                  <a:pt x="21609" y="21600"/>
                </a:lnTo>
                <a:lnTo>
                  <a:pt x="20209" y="20200"/>
                </a:lnTo>
                <a:lnTo>
                  <a:pt x="20209" y="1400"/>
                </a:lnTo>
                <a:close/>
              </a:path>
              <a:path fill="darkenLess" w="21609" h="21600">
                <a:moveTo>
                  <a:pt x="21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9" y="20200"/>
                </a:lnTo>
                <a:close/>
              </a:path>
              <a:path fill="lighten" w="21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9" h="21600">
                <a:moveTo>
                  <a:pt x="3798" y="3794"/>
                </a:moveTo>
                <a:lnTo>
                  <a:pt x="17811" y="10800"/>
                </a:lnTo>
                <a:lnTo>
                  <a:pt x="3798" y="17806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2" name="">
            <a:hlinkClick r:id="rId1" action="ppaction://hlinksldjump"/>
          </p:cNvPr>
          <p:cNvSpPr/>
          <p:nvPr/>
        </p:nvSpPr>
        <p:spPr>
          <a:xfrm>
            <a:off x="228600" y="571500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  <a:path fill="darken" w="21600" h="23752">
                <a:moveTo>
                  <a:pt x="10800" y="4913"/>
                </a:moveTo>
                <a:lnTo>
                  <a:pt x="13376" y="7524"/>
                </a:lnTo>
                <a:lnTo>
                  <a:pt x="13376" y="5783"/>
                </a:lnTo>
                <a:lnTo>
                  <a:pt x="15152" y="5783"/>
                </a:lnTo>
                <a:lnTo>
                  <a:pt x="15152" y="9300"/>
                </a:lnTo>
                <a:lnTo>
                  <a:pt x="17763" y="11876"/>
                </a:lnTo>
                <a:lnTo>
                  <a:pt x="16109" y="11876"/>
                </a:lnTo>
                <a:lnTo>
                  <a:pt x="16109" y="19065"/>
                </a:lnTo>
                <a:lnTo>
                  <a:pt x="5491" y="19065"/>
                </a:lnTo>
                <a:lnTo>
                  <a:pt x="5491" y="11876"/>
                </a:lnTo>
                <a:lnTo>
                  <a:pt x="3837" y="11876"/>
                </a:lnTo>
                <a:close/>
              </a:path>
              <a:path fill="darkenLess" w="21600" h="23752">
                <a:moveTo>
                  <a:pt x="13376" y="7524"/>
                </a:moveTo>
                <a:lnTo>
                  <a:pt x="13376" y="5783"/>
                </a:lnTo>
                <a:lnTo>
                  <a:pt x="15152" y="5783"/>
                </a:lnTo>
                <a:lnTo>
                  <a:pt x="15152" y="9300"/>
                </a:lnTo>
                <a:close/>
              </a:path>
              <a:path fill="darkenLess" w="21600" h="23752">
                <a:moveTo>
                  <a:pt x="9877" y="15375"/>
                </a:moveTo>
                <a:lnTo>
                  <a:pt x="11723" y="15375"/>
                </a:lnTo>
                <a:lnTo>
                  <a:pt x="11723" y="19065"/>
                </a:lnTo>
                <a:lnTo>
                  <a:pt x="16109" y="19065"/>
                </a:lnTo>
                <a:lnTo>
                  <a:pt x="16109" y="11876"/>
                </a:lnTo>
                <a:lnTo>
                  <a:pt x="5491" y="11876"/>
                </a:lnTo>
                <a:lnTo>
                  <a:pt x="5491" y="19065"/>
                </a:lnTo>
                <a:lnTo>
                  <a:pt x="9877" y="19065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14400" y="457200"/>
            <a:ext cx="990720" cy="12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Task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6" name="">
            <a:hlinkClick r:id="rId1" action="ppaction://hlinksldjump"/>
          </p:cNvPr>
          <p:cNvSpPr/>
          <p:nvPr/>
        </p:nvSpPr>
        <p:spPr>
          <a:xfrm>
            <a:off x="228600" y="571500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  <a:path fill="darken" w="21600" h="23752">
                <a:moveTo>
                  <a:pt x="10800" y="4913"/>
                </a:moveTo>
                <a:lnTo>
                  <a:pt x="13376" y="7524"/>
                </a:lnTo>
                <a:lnTo>
                  <a:pt x="13376" y="5783"/>
                </a:lnTo>
                <a:lnTo>
                  <a:pt x="15152" y="5783"/>
                </a:lnTo>
                <a:lnTo>
                  <a:pt x="15152" y="9300"/>
                </a:lnTo>
                <a:lnTo>
                  <a:pt x="17763" y="11876"/>
                </a:lnTo>
                <a:lnTo>
                  <a:pt x="16109" y="11876"/>
                </a:lnTo>
                <a:lnTo>
                  <a:pt x="16109" y="19065"/>
                </a:lnTo>
                <a:lnTo>
                  <a:pt x="5491" y="19065"/>
                </a:lnTo>
                <a:lnTo>
                  <a:pt x="5491" y="11876"/>
                </a:lnTo>
                <a:lnTo>
                  <a:pt x="3837" y="11876"/>
                </a:lnTo>
                <a:close/>
              </a:path>
              <a:path fill="darkenLess" w="21600" h="23752">
                <a:moveTo>
                  <a:pt x="13376" y="7524"/>
                </a:moveTo>
                <a:lnTo>
                  <a:pt x="13376" y="5783"/>
                </a:lnTo>
                <a:lnTo>
                  <a:pt x="15152" y="5783"/>
                </a:lnTo>
                <a:lnTo>
                  <a:pt x="15152" y="9300"/>
                </a:lnTo>
                <a:close/>
              </a:path>
              <a:path fill="darkenLess" w="21600" h="23752">
                <a:moveTo>
                  <a:pt x="9877" y="15375"/>
                </a:moveTo>
                <a:lnTo>
                  <a:pt x="11723" y="15375"/>
                </a:lnTo>
                <a:lnTo>
                  <a:pt x="11723" y="19065"/>
                </a:lnTo>
                <a:lnTo>
                  <a:pt x="16109" y="19065"/>
                </a:lnTo>
                <a:lnTo>
                  <a:pt x="16109" y="11876"/>
                </a:lnTo>
                <a:lnTo>
                  <a:pt x="5491" y="11876"/>
                </a:lnTo>
                <a:lnTo>
                  <a:pt x="5491" y="19065"/>
                </a:lnTo>
                <a:lnTo>
                  <a:pt x="9877" y="19065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nextslide"/>
          </p:cNvPr>
          <p:cNvSpPr/>
          <p:nvPr/>
        </p:nvSpPr>
        <p:spPr>
          <a:xfrm>
            <a:off x="7696080" y="685800"/>
            <a:ext cx="838440" cy="838080"/>
          </a:xfrm>
          <a:custGeom>
            <a:avLst/>
            <a:gdLst>
              <a:gd name="textAreaLeft" fmla="*/ 54000 w 838440"/>
              <a:gd name="textAreaRight" fmla="*/ 784440 w 8384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9" h="21600">
                <a:moveTo>
                  <a:pt x="0" y="0"/>
                </a:moveTo>
                <a:lnTo>
                  <a:pt x="21609" y="0"/>
                </a:lnTo>
                <a:lnTo>
                  <a:pt x="21609" y="21600"/>
                </a:lnTo>
                <a:lnTo>
                  <a:pt x="0" y="21600"/>
                </a:lnTo>
                <a:close/>
              </a:path>
              <a:path fill="lightenLess" w="21609" h="21600">
                <a:moveTo>
                  <a:pt x="0" y="0"/>
                </a:moveTo>
                <a:lnTo>
                  <a:pt x="21609" y="0"/>
                </a:lnTo>
                <a:lnTo>
                  <a:pt x="20209" y="1400"/>
                </a:lnTo>
                <a:lnTo>
                  <a:pt x="1400" y="1400"/>
                </a:lnTo>
                <a:close/>
              </a:path>
              <a:path fill="darken" w="21609" h="21600">
                <a:moveTo>
                  <a:pt x="21609" y="0"/>
                </a:moveTo>
                <a:lnTo>
                  <a:pt x="21609" y="21600"/>
                </a:lnTo>
                <a:lnTo>
                  <a:pt x="20209" y="20200"/>
                </a:lnTo>
                <a:lnTo>
                  <a:pt x="20209" y="1400"/>
                </a:lnTo>
                <a:close/>
              </a:path>
              <a:path fill="darkenLess" w="21609" h="21600">
                <a:moveTo>
                  <a:pt x="21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9" y="20200"/>
                </a:lnTo>
                <a:close/>
              </a:path>
              <a:path fill="lighten" w="21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9" h="21600">
                <a:moveTo>
                  <a:pt x="3798" y="3794"/>
                </a:moveTo>
                <a:lnTo>
                  <a:pt x="17811" y="10800"/>
                </a:lnTo>
                <a:lnTo>
                  <a:pt x="3798" y="17806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Proces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0" name="">
            <a:hlinkClick r:id="rId1" action="ppaction://hlinksldjump"/>
          </p:cNvPr>
          <p:cNvSpPr/>
          <p:nvPr/>
        </p:nvSpPr>
        <p:spPr>
          <a:xfrm>
            <a:off x="228600" y="571500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  <a:path fill="darken" w="21600" h="23752">
                <a:moveTo>
                  <a:pt x="10800" y="4913"/>
                </a:moveTo>
                <a:lnTo>
                  <a:pt x="13376" y="7524"/>
                </a:lnTo>
                <a:lnTo>
                  <a:pt x="13376" y="5783"/>
                </a:lnTo>
                <a:lnTo>
                  <a:pt x="15152" y="5783"/>
                </a:lnTo>
                <a:lnTo>
                  <a:pt x="15152" y="9300"/>
                </a:lnTo>
                <a:lnTo>
                  <a:pt x="17763" y="11876"/>
                </a:lnTo>
                <a:lnTo>
                  <a:pt x="16109" y="11876"/>
                </a:lnTo>
                <a:lnTo>
                  <a:pt x="16109" y="19065"/>
                </a:lnTo>
                <a:lnTo>
                  <a:pt x="5491" y="19065"/>
                </a:lnTo>
                <a:lnTo>
                  <a:pt x="5491" y="11876"/>
                </a:lnTo>
                <a:lnTo>
                  <a:pt x="3837" y="11876"/>
                </a:lnTo>
                <a:close/>
              </a:path>
              <a:path fill="darkenLess" w="21600" h="23752">
                <a:moveTo>
                  <a:pt x="13376" y="7524"/>
                </a:moveTo>
                <a:lnTo>
                  <a:pt x="13376" y="5783"/>
                </a:lnTo>
                <a:lnTo>
                  <a:pt x="15152" y="5783"/>
                </a:lnTo>
                <a:lnTo>
                  <a:pt x="15152" y="9300"/>
                </a:lnTo>
                <a:close/>
              </a:path>
              <a:path fill="darkenLess" w="21600" h="23752">
                <a:moveTo>
                  <a:pt x="9877" y="15375"/>
                </a:moveTo>
                <a:lnTo>
                  <a:pt x="11723" y="15375"/>
                </a:lnTo>
                <a:lnTo>
                  <a:pt x="11723" y="19065"/>
                </a:lnTo>
                <a:lnTo>
                  <a:pt x="16109" y="19065"/>
                </a:lnTo>
                <a:lnTo>
                  <a:pt x="16109" y="11876"/>
                </a:lnTo>
                <a:lnTo>
                  <a:pt x="5491" y="11876"/>
                </a:lnTo>
                <a:lnTo>
                  <a:pt x="5491" y="19065"/>
                </a:lnTo>
                <a:lnTo>
                  <a:pt x="9877" y="19065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nextslide"/>
          </p:cNvPr>
          <p:cNvSpPr/>
          <p:nvPr/>
        </p:nvSpPr>
        <p:spPr>
          <a:xfrm>
            <a:off x="7696080" y="685800"/>
            <a:ext cx="838440" cy="838080"/>
          </a:xfrm>
          <a:custGeom>
            <a:avLst/>
            <a:gdLst>
              <a:gd name="textAreaLeft" fmla="*/ 54000 w 838440"/>
              <a:gd name="textAreaRight" fmla="*/ 784440 w 8384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9" h="21600">
                <a:moveTo>
                  <a:pt x="0" y="0"/>
                </a:moveTo>
                <a:lnTo>
                  <a:pt x="21609" y="0"/>
                </a:lnTo>
                <a:lnTo>
                  <a:pt x="21609" y="21600"/>
                </a:lnTo>
                <a:lnTo>
                  <a:pt x="0" y="21600"/>
                </a:lnTo>
                <a:close/>
              </a:path>
              <a:path fill="lightenLess" w="21609" h="21600">
                <a:moveTo>
                  <a:pt x="0" y="0"/>
                </a:moveTo>
                <a:lnTo>
                  <a:pt x="21609" y="0"/>
                </a:lnTo>
                <a:lnTo>
                  <a:pt x="20209" y="1400"/>
                </a:lnTo>
                <a:lnTo>
                  <a:pt x="1400" y="1400"/>
                </a:lnTo>
                <a:close/>
              </a:path>
              <a:path fill="darken" w="21609" h="21600">
                <a:moveTo>
                  <a:pt x="21609" y="0"/>
                </a:moveTo>
                <a:lnTo>
                  <a:pt x="21609" y="21600"/>
                </a:lnTo>
                <a:lnTo>
                  <a:pt x="20209" y="20200"/>
                </a:lnTo>
                <a:lnTo>
                  <a:pt x="20209" y="1400"/>
                </a:lnTo>
                <a:close/>
              </a:path>
              <a:path fill="darkenLess" w="21609" h="21600">
                <a:moveTo>
                  <a:pt x="21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9" y="20200"/>
                </a:lnTo>
                <a:close/>
              </a:path>
              <a:path fill="lighten" w="21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9" h="21600">
                <a:moveTo>
                  <a:pt x="3798" y="3794"/>
                </a:moveTo>
                <a:lnTo>
                  <a:pt x="17811" y="10800"/>
                </a:lnTo>
                <a:lnTo>
                  <a:pt x="3798" y="17806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Evaluation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4" name="">
            <a:hlinkClick r:id="rId1" action="ppaction://hlinksldjump"/>
          </p:cNvPr>
          <p:cNvSpPr/>
          <p:nvPr/>
        </p:nvSpPr>
        <p:spPr>
          <a:xfrm>
            <a:off x="304920" y="5715000"/>
            <a:ext cx="761760" cy="83808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63">
                <a:moveTo>
                  <a:pt x="0" y="0"/>
                </a:moveTo>
                <a:lnTo>
                  <a:pt x="21600" y="0"/>
                </a:lnTo>
                <a:lnTo>
                  <a:pt x="21600" y="23763"/>
                </a:lnTo>
                <a:lnTo>
                  <a:pt x="0" y="23763"/>
                </a:lnTo>
                <a:close/>
              </a:path>
              <a:path fill="lightenLess" w="21600" h="237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3">
                <a:moveTo>
                  <a:pt x="21600" y="0"/>
                </a:moveTo>
                <a:lnTo>
                  <a:pt x="21600" y="23763"/>
                </a:lnTo>
                <a:lnTo>
                  <a:pt x="20200" y="22363"/>
                </a:lnTo>
                <a:lnTo>
                  <a:pt x="20200" y="1400"/>
                </a:lnTo>
                <a:close/>
              </a:path>
              <a:path fill="darkenLess" w="21600" h="23763">
                <a:moveTo>
                  <a:pt x="21600" y="23763"/>
                </a:moveTo>
                <a:lnTo>
                  <a:pt x="0" y="23763"/>
                </a:lnTo>
                <a:lnTo>
                  <a:pt x="1400" y="22363"/>
                </a:lnTo>
                <a:lnTo>
                  <a:pt x="20200" y="22363"/>
                </a:lnTo>
                <a:close/>
              </a:path>
              <a:path fill="lighten" w="21600" h="23763">
                <a:moveTo>
                  <a:pt x="0" y="237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3"/>
                </a:lnTo>
                <a:close/>
              </a:path>
              <a:path fill="darken" w="21600" h="23763">
                <a:moveTo>
                  <a:pt x="10800" y="4919"/>
                </a:moveTo>
                <a:lnTo>
                  <a:pt x="13376" y="7530"/>
                </a:lnTo>
                <a:lnTo>
                  <a:pt x="13376" y="5789"/>
                </a:lnTo>
                <a:lnTo>
                  <a:pt x="15152" y="5789"/>
                </a:lnTo>
                <a:lnTo>
                  <a:pt x="15152" y="9305"/>
                </a:lnTo>
                <a:lnTo>
                  <a:pt x="17763" y="11882"/>
                </a:lnTo>
                <a:lnTo>
                  <a:pt x="16109" y="11882"/>
                </a:lnTo>
                <a:lnTo>
                  <a:pt x="16109" y="19071"/>
                </a:lnTo>
                <a:lnTo>
                  <a:pt x="5491" y="19071"/>
                </a:lnTo>
                <a:lnTo>
                  <a:pt x="5491" y="11882"/>
                </a:lnTo>
                <a:lnTo>
                  <a:pt x="3837" y="11882"/>
                </a:lnTo>
                <a:close/>
              </a:path>
              <a:path fill="darkenLess" w="21600" h="23763">
                <a:moveTo>
                  <a:pt x="13376" y="7530"/>
                </a:moveTo>
                <a:lnTo>
                  <a:pt x="13376" y="5789"/>
                </a:lnTo>
                <a:lnTo>
                  <a:pt x="15152" y="5789"/>
                </a:lnTo>
                <a:lnTo>
                  <a:pt x="15152" y="9305"/>
                </a:lnTo>
                <a:close/>
              </a:path>
              <a:path fill="darkenLess" w="21600" h="23763">
                <a:moveTo>
                  <a:pt x="9877" y="15380"/>
                </a:moveTo>
                <a:lnTo>
                  <a:pt x="11723" y="15380"/>
                </a:lnTo>
                <a:lnTo>
                  <a:pt x="11723" y="19071"/>
                </a:lnTo>
                <a:lnTo>
                  <a:pt x="16109" y="19071"/>
                </a:lnTo>
                <a:lnTo>
                  <a:pt x="16109" y="11882"/>
                </a:lnTo>
                <a:lnTo>
                  <a:pt x="5491" y="11882"/>
                </a:lnTo>
                <a:lnTo>
                  <a:pt x="5491" y="19071"/>
                </a:lnTo>
                <a:lnTo>
                  <a:pt x="9877" y="19071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7696080" y="685800"/>
            <a:ext cx="838440" cy="838080"/>
          </a:xfrm>
          <a:custGeom>
            <a:avLst/>
            <a:gdLst>
              <a:gd name="textAreaLeft" fmla="*/ 54000 w 838440"/>
              <a:gd name="textAreaRight" fmla="*/ 784440 w 8384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9" h="21600">
                <a:moveTo>
                  <a:pt x="0" y="0"/>
                </a:moveTo>
                <a:lnTo>
                  <a:pt x="21609" y="0"/>
                </a:lnTo>
                <a:lnTo>
                  <a:pt x="21609" y="21600"/>
                </a:lnTo>
                <a:lnTo>
                  <a:pt x="0" y="21600"/>
                </a:lnTo>
                <a:close/>
              </a:path>
              <a:path fill="lightenLess" w="21609" h="21600">
                <a:moveTo>
                  <a:pt x="0" y="0"/>
                </a:moveTo>
                <a:lnTo>
                  <a:pt x="21609" y="0"/>
                </a:lnTo>
                <a:lnTo>
                  <a:pt x="20209" y="1400"/>
                </a:lnTo>
                <a:lnTo>
                  <a:pt x="1400" y="1400"/>
                </a:lnTo>
                <a:close/>
              </a:path>
              <a:path fill="darken" w="21609" h="21600">
                <a:moveTo>
                  <a:pt x="21609" y="0"/>
                </a:moveTo>
                <a:lnTo>
                  <a:pt x="21609" y="21600"/>
                </a:lnTo>
                <a:lnTo>
                  <a:pt x="20209" y="20200"/>
                </a:lnTo>
                <a:lnTo>
                  <a:pt x="20209" y="1400"/>
                </a:lnTo>
                <a:close/>
              </a:path>
              <a:path fill="darkenLess" w="21609" h="21600">
                <a:moveTo>
                  <a:pt x="21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9" y="20200"/>
                </a:lnTo>
                <a:close/>
              </a:path>
              <a:path fill="lighten" w="21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9" h="21600">
                <a:moveTo>
                  <a:pt x="3798" y="3794"/>
                </a:moveTo>
                <a:lnTo>
                  <a:pt x="17811" y="10800"/>
                </a:lnTo>
                <a:lnTo>
                  <a:pt x="3798" y="17806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8" name="">
            <a:hlinkClick r:id="rId1" action="ppaction://hlinksldjump"/>
          </p:cNvPr>
          <p:cNvSpPr/>
          <p:nvPr/>
        </p:nvSpPr>
        <p:spPr>
          <a:xfrm>
            <a:off x="228600" y="571500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  <a:path fill="darken" w="21600" h="23752">
                <a:moveTo>
                  <a:pt x="10800" y="4913"/>
                </a:moveTo>
                <a:lnTo>
                  <a:pt x="13376" y="7524"/>
                </a:lnTo>
                <a:lnTo>
                  <a:pt x="13376" y="5783"/>
                </a:lnTo>
                <a:lnTo>
                  <a:pt x="15152" y="5783"/>
                </a:lnTo>
                <a:lnTo>
                  <a:pt x="15152" y="9300"/>
                </a:lnTo>
                <a:lnTo>
                  <a:pt x="17763" y="11876"/>
                </a:lnTo>
                <a:lnTo>
                  <a:pt x="16109" y="11876"/>
                </a:lnTo>
                <a:lnTo>
                  <a:pt x="16109" y="19065"/>
                </a:lnTo>
                <a:lnTo>
                  <a:pt x="5491" y="19065"/>
                </a:lnTo>
                <a:lnTo>
                  <a:pt x="5491" y="11876"/>
                </a:lnTo>
                <a:lnTo>
                  <a:pt x="3837" y="11876"/>
                </a:lnTo>
                <a:close/>
              </a:path>
              <a:path fill="darkenLess" w="21600" h="23752">
                <a:moveTo>
                  <a:pt x="13376" y="7524"/>
                </a:moveTo>
                <a:lnTo>
                  <a:pt x="13376" y="5783"/>
                </a:lnTo>
                <a:lnTo>
                  <a:pt x="15152" y="5783"/>
                </a:lnTo>
                <a:lnTo>
                  <a:pt x="15152" y="9300"/>
                </a:lnTo>
                <a:close/>
              </a:path>
              <a:path fill="darkenLess" w="21600" h="23752">
                <a:moveTo>
                  <a:pt x="9877" y="15375"/>
                </a:moveTo>
                <a:lnTo>
                  <a:pt x="11723" y="15375"/>
                </a:lnTo>
                <a:lnTo>
                  <a:pt x="11723" y="19065"/>
                </a:lnTo>
                <a:lnTo>
                  <a:pt x="16109" y="19065"/>
                </a:lnTo>
                <a:lnTo>
                  <a:pt x="16109" y="11876"/>
                </a:lnTo>
                <a:lnTo>
                  <a:pt x="5491" y="11876"/>
                </a:lnTo>
                <a:lnTo>
                  <a:pt x="5491" y="19065"/>
                </a:lnTo>
                <a:lnTo>
                  <a:pt x="9877" y="19065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8T21:17:47Z</dcterms:created>
  <dc:creator>Villa Julie</dc:creator>
  <dc:description/>
  <dc:language>en-US</dc:language>
  <cp:lastModifiedBy>BCPS</cp:lastModifiedBy>
  <dcterms:modified xsi:type="dcterms:W3CDTF">2010-04-14T18:51:38Z</dcterms:modified>
  <cp:revision>7</cp:revision>
  <dc:subject/>
  <dc:title>Plants</dc:title>
</cp:coreProperties>
</file>